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1AD-F92A-49D6-B1CF-79DE6334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753-5267-4E6D-A8D5-58D8D324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D87-F1C3-4312-995E-EA7EFC0D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5C1-1036-428B-8874-C4809B8D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70E-F8E7-44B8-B745-3A87A2D7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D1A-F3DB-49D1-BDBA-26DB9717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381-FB73-4E4B-B526-3D666364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9D4-EA6E-410E-AC64-328D7579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0B4-1797-4C58-8744-7293FE15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9C6-AB60-4D2D-96CE-85AADDC6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192-7007-4977-8744-196CB649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580-2432-4D01-A281-9A54DB91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4A6C-A251-4225-8923-879E2E004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498774VHyFuSjlJ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893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تعال بيننا أقِم عندنا وخذ من قلوبنا لك مسك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27240" y="3838680"/>
            <a:ext cx="736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ب لنا عيوناً ترنو إل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واجعل حياتنا مُلكاً لد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نعرف طعم الهناء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لا استجب منّا الدعاء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3498774VHyFuSjlJ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893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تعال بيننا أقِم عندنا وخذ من قلوبنا لك مسك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52560" y="3838680"/>
            <a:ext cx="75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مح الضغينة من صدور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زرع كلامك في ضميرن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فنحصد حب العط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ألا استجب منا الدعاء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498774VHyFuSjlJ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893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تعال بيننا أقِم عندنا وخذ من قلوبنا لك مسك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41160" y="3838680"/>
            <a:ext cx="6849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حن جياع أنت خبزنا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نحن عطاش أنت ماؤن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منك يطيب الغذ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لا استجب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ا الدعاء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8:51:19Z</dcterms:modified>
  <cp:revision>1</cp:revision>
  <dc:subject/>
  <dc:title>PowerPoint Presentation</dc:title>
</cp:coreProperties>
</file>